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83400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31A-03FB-42AF-B80D-6FF8C87D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35B-9AEB-4C39-A30D-5B5958F4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571-D643-4EC2-A1DF-C04372FC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7DD-4E09-48F3-8360-C2BBE10C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197-15CD-43C1-A7E8-1D8FBFC9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79D-EE8B-46E2-AC64-D0CDB92B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8C8-6F42-4E26-8E2B-919FD559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1D9-B5B1-4403-8059-C40794DE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26E-A41B-44CC-81D1-5BE528BA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13A-0A00-42FD-AD85-2BD12D56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F16-3742-401F-A1DE-F70A3448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A58-6DD5-4B58-808B-5DEFA253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3143-C152-4F9A-8331-801BAE76874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28E2-867C-42F9-8344-25E4B77FFCF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7 Imagen" descr="grupo banco provincia.jpg"/>
          <p:cNvPicPr/>
          <p:nvPr/>
        </p:nvPicPr>
        <p:blipFill>
          <a:blip r:embed="rId3"/>
          <a:stretch/>
        </p:blipFill>
        <p:spPr>
          <a:xfrm>
            <a:off x="7072200" y="285840"/>
            <a:ext cx="17859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7 Imagen" descr="grupo banco provincia.jpg"/>
          <p:cNvPicPr/>
          <p:nvPr/>
        </p:nvPicPr>
        <p:blipFill>
          <a:blip r:embed="rId3"/>
          <a:stretch/>
        </p:blipFill>
        <p:spPr>
          <a:xfrm>
            <a:off x="7072200" y="285840"/>
            <a:ext cx="1785960" cy="56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9 Imagen" descr="grupo banco provincia.jpg"/>
          <p:cNvPicPr/>
          <p:nvPr/>
        </p:nvPicPr>
        <p:blipFill>
          <a:blip r:embed="rId5"/>
          <a:stretch/>
        </p:blipFill>
        <p:spPr>
          <a:xfrm>
            <a:off x="7215120" y="214200"/>
            <a:ext cx="1785960" cy="567000"/>
          </a:xfrm>
          <a:prstGeom prst="rect">
            <a:avLst/>
          </a:prstGeom>
          <a:ln w="0">
            <a:noFill/>
          </a:ln>
        </p:spPr>
      </p:pic>
      <p:pic>
        <p:nvPicPr>
          <p:cNvPr id="47" name="10 Imagen" descr="provincia vida.jpg"/>
          <p:cNvPicPr/>
          <p:nvPr/>
        </p:nvPicPr>
        <p:blipFill>
          <a:blip r:embed="rId6"/>
          <a:stretch/>
        </p:blipFill>
        <p:spPr>
          <a:xfrm>
            <a:off x="2505240" y="1879560"/>
            <a:ext cx="4133520" cy="3098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5 Imagen" descr="provincia mandatos.jpg"/>
          <p:cNvPicPr/>
          <p:nvPr/>
        </p:nvPicPr>
        <p:blipFill>
          <a:blip r:embed="rId1"/>
          <a:stretch/>
        </p:blipFill>
        <p:spPr>
          <a:xfrm>
            <a:off x="2505240" y="1879560"/>
            <a:ext cx="41335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s-AR" sz="4400" spc="-1" strike="noStrike">
                <a:solidFill>
                  <a:srgbClr val="7f7f7f"/>
                </a:solidFill>
                <a:latin typeface="Neo Sans"/>
              </a:rPr>
              <a:t>Básicamente, idea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79BC-B4B3-4924-AD33-E775402F731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128" name="4 Rectángulo"/>
          <p:cNvSpPr/>
          <p:nvPr/>
        </p:nvSpPr>
        <p:spPr>
          <a:xfrm>
            <a:off x="500040" y="1571760"/>
            <a:ext cx="82152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7e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7f7f7f"/>
                </a:solidFill>
                <a:latin typeface="Neo Sans"/>
              </a:rPr>
              <a:t>Escuchar la problemática de los clientes y proponer desde lo que sabemos hacer, fideicomisos, posibles soluciones a problemas de gest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7e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7e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7f7f7f"/>
                </a:solidFill>
                <a:latin typeface="Neo Sans"/>
              </a:rPr>
              <a:t> </a:t>
            </a:r>
            <a:r>
              <a:rPr b="0" lang="es-AR" sz="2400" spc="-1" strike="noStrike">
                <a:solidFill>
                  <a:srgbClr val="7f7f7f"/>
                </a:solidFill>
                <a:latin typeface="Neo Sans"/>
              </a:rPr>
              <a:t>Trabajar conjuntamente con los clientes para tratar de encontrar soluciones reales a problemas comple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7e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7e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7f7f7f"/>
                </a:solidFill>
                <a:latin typeface="Neo Sans"/>
              </a:rPr>
              <a:t>Los fideicomisos no son instrumentos mágicos que solucionan todos los problemas, pero pueden viabilizar muchos proyectos de manera innov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1017-3985-4E5C-8462-98F826623C6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132" name="4 Rectángulo"/>
          <p:cNvSpPr/>
          <p:nvPr/>
        </p:nvSpPr>
        <p:spPr>
          <a:xfrm>
            <a:off x="1247400" y="2714760"/>
            <a:ext cx="71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7f7f7f"/>
                </a:solidFill>
                <a:latin typeface="Neo Sans"/>
              </a:rPr>
              <a:t>Qué es un fideicomis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A1BA-D1B4-4949-9B5C-23153F86119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309840" y="689040"/>
            <a:ext cx="2500560" cy="368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o Sans"/>
              </a:rPr>
              <a:t>Ley  24.4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4441680" y="1135080"/>
            <a:ext cx="287640" cy="576360"/>
          </a:xfrm>
          <a:prstGeom prst="downArrow">
            <a:avLst>
              <a:gd name="adj1" fmla="val 50000"/>
              <a:gd name="adj2" fmla="val 500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870360" y="1778040"/>
            <a:ext cx="1481040" cy="5814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Fideicom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o Sans"/>
              </a:rPr>
              <a:t>(Título 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655720" y="3135240"/>
            <a:ext cx="1498680" cy="5814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Ord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o Sans"/>
              </a:rPr>
              <a:t>(Art.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013360" y="3135240"/>
            <a:ext cx="1511280" cy="5814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Financi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o Sans"/>
              </a:rPr>
              <a:t>(Art. 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4227480" y="3206880"/>
            <a:ext cx="720720" cy="287280"/>
          </a:xfrm>
          <a:prstGeom prst="leftRightArrow">
            <a:avLst>
              <a:gd name="adj1" fmla="val 50000"/>
              <a:gd name="adj2" fmla="val 4994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928800" y="4338000"/>
            <a:ext cx="3714480" cy="17366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eo Sans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Neo Sans"/>
              </a:rPr>
              <a:t>Habrá fideicomiso cuando una persona (</a:t>
            </a:r>
            <a:r>
              <a:rPr b="1" lang="es-ES" sz="1200" spc="-1" strike="noStrike">
                <a:solidFill>
                  <a:srgbClr val="000000"/>
                </a:solidFill>
                <a:latin typeface="Neo Sans"/>
              </a:rPr>
              <a:t>FIDUCIANTE</a:t>
            </a:r>
            <a:r>
              <a:rPr b="0" lang="es-ES" sz="1200" spc="-1" strike="noStrike">
                <a:solidFill>
                  <a:srgbClr val="000000"/>
                </a:solidFill>
                <a:latin typeface="Neo Sans"/>
              </a:rPr>
              <a:t>) transmita la propiedad fiduciaria de bienes determinados a otra (</a:t>
            </a:r>
            <a:r>
              <a:rPr b="1" lang="es-ES" sz="1200" spc="-1" strike="noStrike">
                <a:solidFill>
                  <a:srgbClr val="000000"/>
                </a:solidFill>
                <a:latin typeface="Neo Sans"/>
              </a:rPr>
              <a:t>FIDUCIARIO</a:t>
            </a:r>
            <a:r>
              <a:rPr b="0" lang="es-ES" sz="1200" spc="-1" strike="noStrike">
                <a:solidFill>
                  <a:srgbClr val="000000"/>
                </a:solidFill>
                <a:latin typeface="Neo Sans"/>
              </a:rPr>
              <a:t>), quien se obliga a ejercerla  en beneficio de quien se designe en el contrato (</a:t>
            </a:r>
            <a:r>
              <a:rPr b="1" lang="es-ES" sz="1200" spc="-1" strike="noStrike">
                <a:solidFill>
                  <a:srgbClr val="000000"/>
                </a:solidFill>
                <a:latin typeface="Neo Sans"/>
              </a:rPr>
              <a:t>BENEFICIARIO</a:t>
            </a:r>
            <a:r>
              <a:rPr b="0" lang="es-ES" sz="1200" spc="-1" strike="noStrike">
                <a:solidFill>
                  <a:srgbClr val="000000"/>
                </a:solidFill>
                <a:latin typeface="Neo Sans"/>
              </a:rPr>
              <a:t>), y a transmitirlo al cumplimiento de un plazo o condición al fiduciante, al beneficiario o al fideicomisario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4857840" y="4346640"/>
            <a:ext cx="3500280" cy="1919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eo Sans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Neo Sans"/>
              </a:rPr>
              <a:t>Fideicomiso financiero es aquel contrato de fideicomiso (…) en el cual el fiduciario es una entidad financiera o una sociedad especialmente autorizada por la Comisión Nacional de Valores para actuar como fiduciario financiero, y beneficiario son los titulares de certificados de participación en el dominio fiduciario o de títulos representativos de deuda garantizados con los bienes así transmitidos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3298680" y="3778200"/>
            <a:ext cx="287640" cy="576360"/>
          </a:xfrm>
          <a:prstGeom prst="downArrow">
            <a:avLst>
              <a:gd name="adj1" fmla="val 50000"/>
              <a:gd name="adj2" fmla="val 500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5584680" y="3778200"/>
            <a:ext cx="287640" cy="576360"/>
          </a:xfrm>
          <a:prstGeom prst="downArrow">
            <a:avLst>
              <a:gd name="adj1" fmla="val 50000"/>
              <a:gd name="adj2" fmla="val 500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4429080" y="2428920"/>
            <a:ext cx="287280" cy="861840"/>
          </a:xfrm>
          <a:prstGeom prst="downArrow">
            <a:avLst>
              <a:gd name="adj1" fmla="val 50000"/>
              <a:gd name="adj2" fmla="val 5013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F9B1-B3FC-459F-ADE1-8BBCFFB6EC7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3665520" y="677880"/>
            <a:ext cx="1873440" cy="431640"/>
          </a:xfrm>
          <a:prstGeom prst="rect">
            <a:avLst/>
          </a:prstGeom>
          <a:solidFill>
            <a:srgbClr val="9bbb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o Sans"/>
              </a:rPr>
              <a:t>FIDUCI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665520" y="1106640"/>
            <a:ext cx="1873440" cy="792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Neo Sans"/>
              </a:rPr>
              <a:t>Administra y dispone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Neo Sans"/>
              </a:rPr>
              <a:t>los bienes fideicomitido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Neo Sans"/>
              </a:rPr>
              <a:t>conforme lo establec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Neo Sans"/>
              </a:rPr>
              <a:t>en el contrato de fideicomi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9"/>
          <p:cNvSpPr/>
          <p:nvPr/>
        </p:nvSpPr>
        <p:spPr>
          <a:xfrm>
            <a:off x="4451400" y="19638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3594240" y="2606760"/>
            <a:ext cx="1871640" cy="15843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o Sans"/>
              </a:rPr>
              <a:t>FIDEICOM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Neo Sans"/>
              </a:rPr>
              <a:t>(BIE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Neo Sans"/>
              </a:rPr>
              <a:t>FIDEICOMITIDO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6523200" y="3178080"/>
            <a:ext cx="1873080" cy="7923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Neo Sans"/>
              </a:rPr>
              <a:t>Destinatario de los benefi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Neo Sans"/>
              </a:rPr>
              <a:t>cios derivados del Fideico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Neo Sans"/>
              </a:rPr>
              <a:t>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6523200" y="2749680"/>
            <a:ext cx="1873080" cy="4316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o Sans"/>
              </a:rPr>
              <a:t>BENEFICIARIO</a:t>
            </a:r>
            <a:r>
              <a:rPr b="1" lang="es-ES" sz="1800" spc="-1" strike="noStrike">
                <a:solidFill>
                  <a:srgbClr val="ffffff"/>
                </a:solidFill>
                <a:latin typeface="Neo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2"/>
          <p:cNvSpPr/>
          <p:nvPr/>
        </p:nvSpPr>
        <p:spPr>
          <a:xfrm rot="16200000">
            <a:off x="5738760" y="3105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65280" y="2749680"/>
            <a:ext cx="1873080" cy="4316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o Sans"/>
              </a:rPr>
              <a:t>FIDUCI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665280" y="3178080"/>
            <a:ext cx="1873080" cy="7923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Neo Sans"/>
              </a:rPr>
              <a:t>Titular original de los Bie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Neo Sans"/>
              </a:rPr>
              <a:t>Fideicomiti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1"/>
          <p:cNvSpPr/>
          <p:nvPr/>
        </p:nvSpPr>
        <p:spPr>
          <a:xfrm rot="16200000">
            <a:off x="2881080" y="3105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3594240" y="4892760"/>
            <a:ext cx="1873080" cy="4316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o Sans"/>
              </a:rPr>
              <a:t>FIDEICOMIS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3594240" y="5321160"/>
            <a:ext cx="1873080" cy="7923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Neo Sans"/>
              </a:rPr>
              <a:t>Eventual destinatario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Neo Sans"/>
              </a:rPr>
              <a:t>los excedentes de lo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Neo Sans"/>
              </a:rPr>
              <a:t>Bienes Fideicomiti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0"/>
          <p:cNvSpPr/>
          <p:nvPr/>
        </p:nvSpPr>
        <p:spPr>
          <a:xfrm>
            <a:off x="4379760" y="4249800"/>
            <a:ext cx="287640" cy="576360"/>
          </a:xfrm>
          <a:prstGeom prst="downArrow">
            <a:avLst>
              <a:gd name="adj1" fmla="val 50000"/>
              <a:gd name="adj2" fmla="val 500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3276000" y="210672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7777"/>
                </a:solidFill>
                <a:latin typeface="Neo Sans"/>
              </a:rPr>
              <a:t>Administ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5509080" y="2963880"/>
            <a:ext cx="10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7777"/>
                </a:solidFill>
                <a:latin typeface="Neo Sans"/>
              </a:rPr>
              <a:t>Benef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2649240" y="296388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7777"/>
                </a:solidFill>
                <a:latin typeface="Neo Sans"/>
              </a:rPr>
              <a:t>Transfi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3160800" y="439272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Neo Sans"/>
              </a:rPr>
              <a:t>Exced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E904-D85E-4AC0-83FA-EE53E871036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214200" y="857160"/>
            <a:ext cx="8607600" cy="4287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Neo Sans"/>
              </a:rPr>
              <a:t>CARACTERIST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14200" y="1357200"/>
            <a:ext cx="8607600" cy="5806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Neo Sans"/>
              </a:rPr>
              <a:t>El </a:t>
            </a:r>
            <a:r>
              <a:rPr b="1" lang="es-ES" sz="1600" spc="-1" strike="noStrike">
                <a:solidFill>
                  <a:srgbClr val="000000"/>
                </a:solidFill>
                <a:latin typeface="Neo Sans"/>
              </a:rPr>
              <a:t>FIDUCIARIO</a:t>
            </a:r>
            <a:r>
              <a:rPr b="0" lang="es-ES" sz="1600" spc="-1" strike="noStrike">
                <a:solidFill>
                  <a:srgbClr val="000000"/>
                </a:solidFill>
                <a:latin typeface="Neo Sans"/>
              </a:rPr>
              <a:t> adquiere la propiedad fiduciaria (dominio Fiduciario) de los bienes transferidos por el </a:t>
            </a:r>
            <a:r>
              <a:rPr b="1" lang="es-ES" sz="1600" spc="-1" strike="noStrike">
                <a:solidFill>
                  <a:srgbClr val="000000"/>
                </a:solidFill>
                <a:latin typeface="Neo Sans"/>
              </a:rPr>
              <a:t>FIDUCIANTE</a:t>
            </a:r>
            <a:r>
              <a:rPr b="0" lang="es-ES" sz="1600" spc="-1" strike="noStrike">
                <a:solidFill>
                  <a:srgbClr val="000000"/>
                </a:solidFill>
                <a:latin typeface="Neo Sans"/>
              </a:rPr>
              <a:t> al Fideicomi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14200" y="2000160"/>
            <a:ext cx="8607600" cy="4717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Neo Sans"/>
              </a:rPr>
              <a:t>TEMPORARIO</a:t>
            </a:r>
            <a:r>
              <a:rPr b="0" lang="es-ES" sz="1600" spc="-1" strike="noStrike">
                <a:solidFill>
                  <a:srgbClr val="000000"/>
                </a:solidFill>
                <a:latin typeface="Neo Sans"/>
              </a:rPr>
              <a:t>:  “… nunca podrá durar mas de 30 (treinta) años desde su constitución …” (Art. 4 inc. “c”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Neo Sans"/>
              </a:rPr>
              <a:t>NO ABSOLUTO</a:t>
            </a:r>
            <a:r>
              <a:rPr b="0" lang="es-ES" sz="1600" spc="-1" strike="noStrike">
                <a:solidFill>
                  <a:srgbClr val="000000"/>
                </a:solidFill>
                <a:latin typeface="Neo Sans"/>
              </a:rPr>
              <a:t>:  El dominio fiduciario del Fiduciario sobre los Bienes Fideicomitidos se encuentra limitado a las disposiciones del contrato de Fideicomi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Neo Sans"/>
              </a:rPr>
              <a:t>SEGURIDAD JURIDICA</a:t>
            </a:r>
            <a:r>
              <a:rPr b="0" lang="es-ES" sz="1600" spc="-1" strike="noStrike">
                <a:solidFill>
                  <a:srgbClr val="000000"/>
                </a:solidFill>
                <a:latin typeface="Neo Sans"/>
              </a:rPr>
              <a:t>:  Los Bienes Fideicomitidos constituyen un patrimonio separado del patrimonio del Fiduciario y del Fiduciante (Art. 14). Los Bienes Fideicomitidos quedarán exentos de la acción singular o colectiva de los acreedores del Fiduciario. Tampoco podrán agredir los Bienes Fideicomitidos los acreedores del Fiduciante (Art. 15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Neo Sans"/>
              </a:rPr>
              <a:t>GESTION SEPARADA DEL PATRIMONIO FIDEICOMITIDO: </a:t>
            </a:r>
            <a:r>
              <a:rPr b="0" lang="es-ES" sz="1600" spc="-1" strike="noStrike">
                <a:solidFill>
                  <a:srgbClr val="000000"/>
                </a:solidFill>
                <a:latin typeface="Neo Sans"/>
              </a:rPr>
              <a:t> Independencia respecto del comportamiento del Fiduci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Neo Sans"/>
              </a:rPr>
              <a:t>ACCESO AL MERCADO DE CAPITALES</a:t>
            </a:r>
            <a:r>
              <a:rPr b="0" lang="es-ES" sz="1600" spc="-1" strike="noStrike">
                <a:solidFill>
                  <a:srgbClr val="000000"/>
                </a:solidFill>
                <a:latin typeface="Neo Sans"/>
              </a:rPr>
              <a:t> (Fideicomiso Financie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Neo Sans"/>
              </a:rPr>
              <a:t>EJECUCION EXTRAJUDICIAL</a:t>
            </a:r>
            <a:r>
              <a:rPr b="0" lang="es-ES" sz="1600" spc="-1" strike="noStrike">
                <a:solidFill>
                  <a:srgbClr val="000000"/>
                </a:solidFill>
                <a:latin typeface="Neo Sans"/>
              </a:rPr>
              <a:t>: Los Bienes Fideicomitidos pueden ser realizados por el Fiduciario mediante procedimientos extrajudi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5A36-9CD0-4BDC-A87C-1336BF6B51A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285840" y="857160"/>
            <a:ext cx="8393040" cy="5968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Neo Sans"/>
              </a:rPr>
              <a:t>BIENES FIDEICOMITI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85840" y="1500120"/>
            <a:ext cx="8358120" cy="4483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Neo Sans"/>
              </a:rPr>
              <a:t>¿Qué bienes pueden ser objeto de transferencia a un FIDEICOMIS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Neo San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Neo Sans"/>
              </a:rPr>
              <a:t>INMUE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Neo San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Neo Sans"/>
              </a:rPr>
              <a:t>MUE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Neo San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Neo Sans"/>
              </a:rPr>
              <a:t>DEREC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Neo San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Neo San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Neo Sans"/>
              </a:rPr>
              <a:t>- Créditos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Neo Sans"/>
                <a:ea typeface="Calibri"/>
              </a:rPr>
              <a:t>Cartera de cheques / paga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Neo Sans"/>
                <a:ea typeface="Calibri"/>
              </a:rPr>
              <a:t>Cesión de fac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Neo Sans"/>
              </a:rPr>
              <a:t>Cupones de tarjetas de cré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Neo Sans"/>
              </a:rPr>
              <a:t>Cartas de crédito o cobranzas de expor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Neo Sans"/>
              </a:rPr>
              <a:t>Cualquier flujo de ingresos c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Neo Sans"/>
                <a:ea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1452-6A03-400C-B06E-9C5CADAB387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181" name="4 Rectángulo"/>
          <p:cNvSpPr/>
          <p:nvPr/>
        </p:nvSpPr>
        <p:spPr>
          <a:xfrm>
            <a:off x="288720" y="2857680"/>
            <a:ext cx="87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f7f7f"/>
                </a:solidFill>
                <a:latin typeface="Neo Sans"/>
              </a:rPr>
              <a:t>Qué es un fideicomiso financ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725D-A10F-4CC2-9A94-7285E86D909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714240" y="1143000"/>
            <a:ext cx="7201080" cy="5763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Neo Sans"/>
              </a:rPr>
              <a:t>FIDEICOMISO FINANCIE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500200" y="2071800"/>
            <a:ext cx="364356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o Sans"/>
              </a:rPr>
              <a:t>SECURITIZACION DE 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928800" y="3000240"/>
            <a:ext cx="6643440" cy="25628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Permite la transformación de activos ilíquidos en títulos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(Títulos de Deuda y/o Certificados de Participación)  que son monetizados o liquidados mediante su colocación pública o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Las obligaciones creadas a partir de la emisión de los títulos va-lores son atendidos exclusivamente con los Bienes Fideicomit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426E-7880-432F-BFE0-1758D19A611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714240" y="1071720"/>
            <a:ext cx="7786800" cy="5760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o Sans"/>
              </a:rPr>
              <a:t>TITULOS VALORES - EMI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714240" y="2214720"/>
            <a:ext cx="7786800" cy="39344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Neo Sans"/>
              </a:rPr>
              <a:t>CARACTERI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Serán emitidos por el Fiduc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Su repago se encuentra garantizado con los Bienes Fideicomi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Las condiciones de emisión y los derechos que otorguen serán establecidas en base a un prosp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La emisión de títulos valores podrá efectuarse en diversas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Cada serie podrá contener diversas clases de títulos valores con derechos di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CE32-22F9-4872-B6FB-4483C7F0EB1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1214280" y="1000080"/>
            <a:ext cx="7201080" cy="5763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o Sans"/>
              </a:rPr>
              <a:t>TITULOS VALORES - COLOC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00280" y="1857240"/>
            <a:ext cx="1481400" cy="6426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Tít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4143240" y="2500200"/>
            <a:ext cx="14472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"/>
          <p:cNvSpPr/>
          <p:nvPr/>
        </p:nvSpPr>
        <p:spPr>
          <a:xfrm>
            <a:off x="3857760" y="3286080"/>
            <a:ext cx="720720" cy="287280"/>
          </a:xfrm>
          <a:prstGeom prst="leftRightArrow">
            <a:avLst>
              <a:gd name="adj1" fmla="val 50000"/>
              <a:gd name="adj2" fmla="val 4994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000160" y="3000240"/>
            <a:ext cx="1498680" cy="6426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En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PR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786200" y="3000240"/>
            <a:ext cx="1511280" cy="6426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o Sans"/>
              </a:rPr>
              <a:t>PU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5286240" y="3643200"/>
            <a:ext cx="287640" cy="576360"/>
          </a:xfrm>
          <a:prstGeom prst="downArrow">
            <a:avLst>
              <a:gd name="adj1" fmla="val 50000"/>
              <a:gd name="adj2" fmla="val 500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5" descr=""/>
          <p:cNvPicPr/>
          <p:nvPr/>
        </p:nvPicPr>
        <p:blipFill>
          <a:blip r:embed="rId2"/>
          <a:stretch/>
        </p:blipFill>
        <p:spPr>
          <a:xfrm>
            <a:off x="4643280" y="4357800"/>
            <a:ext cx="1440000" cy="5284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7"/>
          <p:cNvSpPr/>
          <p:nvPr/>
        </p:nvSpPr>
        <p:spPr>
          <a:xfrm>
            <a:off x="3839040" y="4857840"/>
            <a:ext cx="300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Neo Sans"/>
              </a:rPr>
              <a:t>Comisión Nacional de 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Neo Sans"/>
              </a:rPr>
              <a:t>Organismo de Contra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4 CuadroTexto"/>
          <p:cNvSpPr/>
          <p:nvPr/>
        </p:nvSpPr>
        <p:spPr>
          <a:xfrm>
            <a:off x="357120" y="5286240"/>
            <a:ext cx="8643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6666"/>
                </a:solidFill>
                <a:latin typeface="Neo Sans"/>
              </a:rPr>
              <a:t>FINANCIAMIENTO PARA P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6666"/>
                </a:solidFill>
                <a:latin typeface="Neo Sans"/>
              </a:rPr>
              <a:t>BANCO PROVINCIA Y GRUPO BANCO PROVINCIA: DOS SOCIOS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7f7f7f"/>
                </a:solidFill>
                <a:latin typeface="Neo Sans"/>
              </a:rPr>
              <a:t>Consejo Profesional de Ciencias Económicas de la Ciudad Autónoma de Buenos 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7f7f7f"/>
                </a:solidFill>
                <a:latin typeface="Neo Sans"/>
              </a:rPr>
              <a:t>9/06/2011                                                                                            Lic. Fabián Gustavo Dall’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 CuadroTexto"/>
          <p:cNvSpPr/>
          <p:nvPr/>
        </p:nvSpPr>
        <p:spPr>
          <a:xfrm>
            <a:off x="285840" y="2643120"/>
            <a:ext cx="8858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777777"/>
                </a:solidFill>
                <a:latin typeface="Neo Sans"/>
              </a:rPr>
              <a:t>“</a:t>
            </a:r>
            <a:r>
              <a:rPr b="1" lang="es-AR" sz="3000" spc="-1" strike="noStrike">
                <a:solidFill>
                  <a:srgbClr val="777777"/>
                </a:solidFill>
                <a:latin typeface="Neo Sans"/>
              </a:rPr>
              <a:t>Fideicomisos como instrumentos de gest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1D9E-74D0-4392-A34C-56F10EA7AEE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857160" y="857160"/>
            <a:ext cx="7201080" cy="5763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o Sans"/>
              </a:rPr>
              <a:t>FIDEICOMISO FINANCIERO - 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4 Rectángulo"/>
          <p:cNvSpPr/>
          <p:nvPr/>
        </p:nvSpPr>
        <p:spPr>
          <a:xfrm>
            <a:off x="1071720" y="1643040"/>
            <a:ext cx="6858000" cy="41173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Neo Sans"/>
              </a:rPr>
              <a:t>Los inversores no se perjudicarán ante eventuales inconvenientes financieros posteriores del Fiduciante ( la empresa y su balance quedan </a:t>
            </a:r>
            <a:r>
              <a:rPr b="0" i="1" lang="es-ES" sz="2400" spc="-1" strike="noStrike">
                <a:solidFill>
                  <a:srgbClr val="000000"/>
                </a:solidFill>
                <a:latin typeface="Neo Sans"/>
              </a:rPr>
              <a:t>fuera del instrumento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Neo Sans"/>
              </a:rPr>
              <a:t>Un menor costo de financiamiento, se financian activos “fuera de balance”, lo que evita la calificación del “riesgo empresa” (se califica el “riesgo activo cedido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Neo Sans"/>
              </a:rPr>
              <a:t>Aumenta la capacidad de financiamiento de la empresa, ya que al ser fuera de balance no afecta los ratios de deuda / patrimo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7650-98DE-42C2-8192-A543DD4EE46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1000080" y="1734840"/>
            <a:ext cx="6858000" cy="46677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Neo Sans"/>
                <a:ea typeface="Calibri"/>
              </a:rPr>
              <a:t>Permiten a los inversores mejorar su exposición de riesgo, al disminuir o elimina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Neo Sans"/>
                <a:ea typeface="Calibri"/>
              </a:rPr>
              <a:t>El </a:t>
            </a:r>
            <a:r>
              <a:rPr b="1" i="1" lang="es-ES" sz="2000" spc="-1" strike="noStrike">
                <a:solidFill>
                  <a:srgbClr val="000000"/>
                </a:solidFill>
                <a:latin typeface="Neo Sans"/>
                <a:ea typeface="Calibri"/>
              </a:rPr>
              <a:t>riesgo legal</a:t>
            </a:r>
            <a:r>
              <a:rPr b="0" lang="es-ES" sz="2000" spc="-1" strike="noStrike">
                <a:solidFill>
                  <a:srgbClr val="000000"/>
                </a:solidFill>
                <a:latin typeface="Neo Sans"/>
                <a:ea typeface="Calibri"/>
              </a:rPr>
              <a:t> derivado de la posibilidad de concurso o quiebra de la empresa financi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Neo Sans"/>
              </a:rPr>
              <a:t>El </a:t>
            </a:r>
            <a:r>
              <a:rPr b="1" i="1" lang="es-ES" sz="2000" spc="-1" strike="noStrike">
                <a:solidFill>
                  <a:srgbClr val="000000"/>
                </a:solidFill>
                <a:latin typeface="Neo Sans"/>
              </a:rPr>
              <a:t>riesgo de default</a:t>
            </a:r>
            <a:r>
              <a:rPr b="0" lang="es-ES" sz="2000" spc="-1" strike="noStrike">
                <a:solidFill>
                  <a:srgbClr val="000000"/>
                </a:solidFill>
                <a:latin typeface="Neo Sans"/>
              </a:rPr>
              <a:t> en función de la posibilidad de estructurar esquemas de garantías y formas de cobro especí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Neo Sans"/>
              </a:rPr>
              <a:t>El </a:t>
            </a:r>
            <a:r>
              <a:rPr b="1" i="1" lang="es-ES" sz="2000" spc="-1" strike="noStrike">
                <a:solidFill>
                  <a:srgbClr val="000000"/>
                </a:solidFill>
                <a:latin typeface="Neo Sans"/>
              </a:rPr>
              <a:t>riesgo de evaluación</a:t>
            </a:r>
            <a:r>
              <a:rPr b="0" lang="es-ES" sz="2000" spc="-1" strike="noStrike">
                <a:solidFill>
                  <a:srgbClr val="000000"/>
                </a:solidFill>
                <a:latin typeface="Neo Sans"/>
              </a:rPr>
              <a:t> a partir de la complejidad de evaluar las fuentes y usos de fondos provenientes de distintas unidades de nego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Neo Sans"/>
              </a:rPr>
              <a:t>El riesgo derivado de la </a:t>
            </a:r>
            <a:r>
              <a:rPr b="1" i="1" lang="es-ES" sz="2000" spc="-1" strike="noStrike">
                <a:solidFill>
                  <a:srgbClr val="000000"/>
                </a:solidFill>
                <a:latin typeface="Neo Sans"/>
              </a:rPr>
              <a:t>discrecionalidad del deudor</a:t>
            </a:r>
            <a:r>
              <a:rPr b="0" lang="es-ES" sz="2000" spc="-1" strike="noStrike">
                <a:solidFill>
                  <a:srgbClr val="000000"/>
                </a:solidFill>
                <a:latin typeface="Neo Sans"/>
              </a:rPr>
              <a:t> en el manejo del flujo de fondos consoli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57160" y="857160"/>
            <a:ext cx="7201080" cy="5763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o Sans"/>
              </a:rPr>
              <a:t>FIDEICOMISO FINANCIERO - 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8E48-220E-40C3-8AC1-259B10C6C02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217" name="4 Rectángulo"/>
          <p:cNvSpPr/>
          <p:nvPr/>
        </p:nvSpPr>
        <p:spPr>
          <a:xfrm>
            <a:off x="2141640" y="2857680"/>
            <a:ext cx="46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f7f7f"/>
                </a:solidFill>
                <a:latin typeface="Neo Sans"/>
              </a:rPr>
              <a:t>Alguno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6DDE-2DEB-4C91-8625-1D38DB42725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1505880" y="905040"/>
            <a:ext cx="57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Neo Sans"/>
              </a:rPr>
              <a:t>FIDEICOMISO FINANCIERO CON OFERTA PU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TITULACION DE PAGARES, CHEQUES PAGO DIFERIDO, FAC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042920" y="1933560"/>
            <a:ext cx="2232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Neo Sans"/>
              </a:rPr>
              <a:t>FIDUCI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5364000" y="1933560"/>
            <a:ext cx="2448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Neo Sans"/>
              </a:rPr>
              <a:t>FIDEICOM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Neo Sans"/>
              </a:rPr>
              <a:t>FINANCI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580000" y="4314960"/>
            <a:ext cx="2160720" cy="985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Neo Sans"/>
              </a:rPr>
              <a:t>INVER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348000" y="26528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H="1">
            <a:off x="3348000" y="22208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5796000" y="30132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 flipV="1">
            <a:off x="6732720" y="30128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3472560" y="2874960"/>
            <a:ext cx="13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Neo Sans"/>
              </a:rPr>
              <a:t>ACTIVOS CED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4001040" y="1789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5154840" y="35719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Neo Sans"/>
              </a:rPr>
              <a:t>V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7524720" y="30193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6359400" y="3571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7216560" y="3571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4001040" y="3213000"/>
            <a:ext cx="2829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6006240" y="3857760"/>
            <a:ext cx="2829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7720560" y="3857760"/>
            <a:ext cx="2829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4439160" y="1828800"/>
            <a:ext cx="2829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193680" y="4956120"/>
            <a:ext cx="4624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1 </a:t>
            </a:r>
            <a:r>
              <a:rPr b="0" lang="es-AR" sz="1800" spc="-1" strike="noStrike">
                <a:solidFill>
                  <a:srgbClr val="000000"/>
                </a:solidFill>
                <a:latin typeface="Neo Sans"/>
              </a:rPr>
              <a:t>–</a:t>
            </a: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 Cesión fiduciaria del a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2 – Emisión y colocación por O. Publica de los V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3 – Suscripción de los VDF por parte de los inver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4 – Cobro de los créditos y pago a los inver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1"/>
          <p:cNvSpPr/>
          <p:nvPr/>
        </p:nvSpPr>
        <p:spPr>
          <a:xfrm>
            <a:off x="5937120" y="1627200"/>
            <a:ext cx="119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FIDUC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187560" y="6164280"/>
            <a:ext cx="59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CASOS: FF MONDIAL I; FF AGRARIUM VII, AGRARIUM VIII; FF RHUO 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6863400" y="3857760"/>
            <a:ext cx="2829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8E51-647A-4F2A-A9D8-8B135755DBD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2810880" y="905040"/>
            <a:ext cx="33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Neo Sans"/>
              </a:rPr>
              <a:t>FIDEICOMISO DE GARAN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GARANTIA PARA EMISION O.N</a:t>
            </a:r>
            <a:r>
              <a:rPr b="0" lang="es-AR" sz="1800" spc="-1" strike="noStrike">
                <a:solidFill>
                  <a:srgbClr val="000000"/>
                </a:solidFill>
                <a:latin typeface="Neo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828720" y="2133720"/>
            <a:ext cx="2232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Neo Sans"/>
              </a:rPr>
              <a:t>EM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Neo Sans"/>
              </a:rPr>
              <a:t>PY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6084720" y="2133720"/>
            <a:ext cx="223236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Neo Sans"/>
              </a:rPr>
              <a:t>INVER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8"/>
          <p:cNvSpPr/>
          <p:nvPr/>
        </p:nvSpPr>
        <p:spPr>
          <a:xfrm>
            <a:off x="3564000" y="3860640"/>
            <a:ext cx="2160360" cy="986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Neo Sans"/>
              </a:rPr>
              <a:t>FIDEICOM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Neo Sans"/>
              </a:rPr>
              <a:t>GARAN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AutoShape 8"/>
          <p:cNvCxnSpPr/>
          <p:nvPr/>
        </p:nvCxnSpPr>
        <p:spPr>
          <a:xfrm>
            <a:off x="3205080" y="2565000"/>
            <a:ext cx="277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9" name="Text Box 46"/>
          <p:cNvSpPr/>
          <p:nvPr/>
        </p:nvSpPr>
        <p:spPr>
          <a:xfrm>
            <a:off x="1228320" y="184320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FIDUC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4024080" y="3556080"/>
            <a:ext cx="119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FIDUC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8"/>
          <p:cNvSpPr/>
          <p:nvPr/>
        </p:nvSpPr>
        <p:spPr>
          <a:xfrm>
            <a:off x="1908000" y="321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9"/>
          <p:cNvSpPr/>
          <p:nvPr/>
        </p:nvSpPr>
        <p:spPr>
          <a:xfrm>
            <a:off x="1908000" y="422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0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1"/>
          <p:cNvSpPr/>
          <p:nvPr/>
        </p:nvSpPr>
        <p:spPr>
          <a:xfrm flipV="1">
            <a:off x="7308720" y="321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2"/>
          <p:cNvSpPr/>
          <p:nvPr/>
        </p:nvSpPr>
        <p:spPr>
          <a:xfrm>
            <a:off x="6405840" y="182880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BENEFICI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4"/>
          <p:cNvSpPr/>
          <p:nvPr/>
        </p:nvSpPr>
        <p:spPr>
          <a:xfrm>
            <a:off x="1753920" y="4386240"/>
            <a:ext cx="182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Neo Sans"/>
              </a:rPr>
              <a:t> </a:t>
            </a:r>
            <a:r>
              <a:rPr b="1" lang="es-AR" sz="1400" spc="-1" strike="noStrike">
                <a:solidFill>
                  <a:srgbClr val="000000"/>
                </a:solidFill>
                <a:latin typeface="Neo Sans"/>
              </a:rPr>
              <a:t>ACTIVOS CED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Neo Sans"/>
              </a:rPr>
              <a:t>(por ej. Factu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5"/>
          <p:cNvSpPr/>
          <p:nvPr/>
        </p:nvSpPr>
        <p:spPr>
          <a:xfrm>
            <a:off x="3638880" y="2146320"/>
            <a:ext cx="21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000000"/>
                </a:solidFill>
                <a:latin typeface="Neo Sans"/>
              </a:rPr>
              <a:t>EMISION OBLIG. NEG</a:t>
            </a: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6"/>
          <p:cNvSpPr/>
          <p:nvPr/>
        </p:nvSpPr>
        <p:spPr>
          <a:xfrm>
            <a:off x="4347360" y="2708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Neo Sans"/>
              </a:rPr>
              <a:t> </a:t>
            </a:r>
            <a:r>
              <a:rPr b="1" lang="es-AR" sz="1400" spc="-1" strike="noStrike">
                <a:solidFill>
                  <a:srgbClr val="000000"/>
                </a:solidFill>
                <a:latin typeface="Neo Sans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7"/>
          <p:cNvSpPr/>
          <p:nvPr/>
        </p:nvSpPr>
        <p:spPr>
          <a:xfrm>
            <a:off x="6667920" y="4437000"/>
            <a:ext cx="3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000000"/>
                </a:solidFill>
                <a:latin typeface="Neo Sans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8"/>
          <p:cNvSpPr/>
          <p:nvPr/>
        </p:nvSpPr>
        <p:spPr>
          <a:xfrm>
            <a:off x="2392200" y="46274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9"/>
          <p:cNvSpPr/>
          <p:nvPr/>
        </p:nvSpPr>
        <p:spPr>
          <a:xfrm>
            <a:off x="1245240" y="3859200"/>
            <a:ext cx="2829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0"/>
          <p:cNvSpPr/>
          <p:nvPr/>
        </p:nvSpPr>
        <p:spPr>
          <a:xfrm>
            <a:off x="4366080" y="1844640"/>
            <a:ext cx="2829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1"/>
          <p:cNvSpPr/>
          <p:nvPr/>
        </p:nvSpPr>
        <p:spPr>
          <a:xfrm>
            <a:off x="5153760" y="2708280"/>
            <a:ext cx="2829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2"/>
          <p:cNvSpPr/>
          <p:nvPr/>
        </p:nvSpPr>
        <p:spPr>
          <a:xfrm>
            <a:off x="6522120" y="3716280"/>
            <a:ext cx="2829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3"/>
          <p:cNvSpPr/>
          <p:nvPr/>
        </p:nvSpPr>
        <p:spPr>
          <a:xfrm>
            <a:off x="144360" y="5157720"/>
            <a:ext cx="565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1 </a:t>
            </a:r>
            <a:r>
              <a:rPr b="0" lang="es-AR" sz="1800" spc="-1" strike="noStrike">
                <a:solidFill>
                  <a:srgbClr val="000000"/>
                </a:solidFill>
                <a:latin typeface="Neo Sans"/>
              </a:rPr>
              <a:t>–</a:t>
            </a: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 Cesión fiduciaria del activo en garant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2 – Emisión y colocación por O. Publica de la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3 – Suscripción de las ON por parte de los inver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4 – Pago a los inversores en el caso de incumplimiento del em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4"/>
          <p:cNvSpPr/>
          <p:nvPr/>
        </p:nvSpPr>
        <p:spPr>
          <a:xfrm>
            <a:off x="201960" y="6224760"/>
            <a:ext cx="567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CASO: OBLIGACIONES NEGOCIABLES PYMES REGIONAL TRADE I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816C-7E43-47BC-BAC9-F860E1B20B2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2810880" y="905040"/>
            <a:ext cx="33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Neo Sans"/>
              </a:rPr>
              <a:t>FIDEICOMISO DE GARAN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ESQUEMA DE PERMU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6"/>
          <p:cNvSpPr/>
          <p:nvPr/>
        </p:nvSpPr>
        <p:spPr>
          <a:xfrm>
            <a:off x="253440" y="6224760"/>
            <a:ext cx="329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CASO: MUNICIPIO DE BAHIA BLA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7"/>
          <p:cNvSpPr/>
          <p:nvPr/>
        </p:nvSpPr>
        <p:spPr>
          <a:xfrm>
            <a:off x="971640" y="2168640"/>
            <a:ext cx="1871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Neo Sans"/>
              </a:rPr>
              <a:t>MUNICIP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>
            <a:off x="971640" y="4111560"/>
            <a:ext cx="1871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Neo Sans"/>
              </a:rPr>
              <a:t>PRI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2"/>
          <p:cNvSpPr/>
          <p:nvPr/>
        </p:nvSpPr>
        <p:spPr>
          <a:xfrm>
            <a:off x="5796000" y="4111560"/>
            <a:ext cx="1871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Neo Sans"/>
              </a:rPr>
              <a:t>BENEFICIARIO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>
            <a:off x="5796000" y="2168640"/>
            <a:ext cx="1871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Neo Sans"/>
              </a:rPr>
              <a:t>BENEFICIARIO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3492360" y="3032280"/>
            <a:ext cx="16336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Neo Sans"/>
              </a:rPr>
              <a:t>FIDEICOM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5"/>
          <p:cNvSpPr/>
          <p:nvPr/>
        </p:nvSpPr>
        <p:spPr>
          <a:xfrm>
            <a:off x="1167840" y="187812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FIDUCIANT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1183320" y="380700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FIDUCIANT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8"/>
          <p:cNvSpPr/>
          <p:nvPr/>
        </p:nvSpPr>
        <p:spPr>
          <a:xfrm>
            <a:off x="2916360" y="2455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9"/>
          <p:cNvSpPr/>
          <p:nvPr/>
        </p:nvSpPr>
        <p:spPr>
          <a:xfrm>
            <a:off x="3924360" y="24559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0"/>
          <p:cNvSpPr/>
          <p:nvPr/>
        </p:nvSpPr>
        <p:spPr>
          <a:xfrm>
            <a:off x="2916360" y="4471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1"/>
          <p:cNvSpPr/>
          <p:nvPr/>
        </p:nvSpPr>
        <p:spPr>
          <a:xfrm flipV="1">
            <a:off x="3924360" y="4039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6"/>
          <p:cNvSpPr/>
          <p:nvPr/>
        </p:nvSpPr>
        <p:spPr>
          <a:xfrm>
            <a:off x="4788000" y="4040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7"/>
          <p:cNvSpPr/>
          <p:nvPr/>
        </p:nvSpPr>
        <p:spPr>
          <a:xfrm>
            <a:off x="4788000" y="44719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8"/>
          <p:cNvSpPr/>
          <p:nvPr/>
        </p:nvSpPr>
        <p:spPr>
          <a:xfrm flipV="1">
            <a:off x="4788000" y="24559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4788000" y="24559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0"/>
          <p:cNvSpPr/>
          <p:nvPr/>
        </p:nvSpPr>
        <p:spPr>
          <a:xfrm>
            <a:off x="3027240" y="2141640"/>
            <a:ext cx="72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Neo Sans"/>
              </a:rPr>
              <a:t>AC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2"/>
          <p:cNvSpPr/>
          <p:nvPr/>
        </p:nvSpPr>
        <p:spPr>
          <a:xfrm>
            <a:off x="2920320" y="4578480"/>
            <a:ext cx="102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Neo Sans"/>
              </a:rPr>
              <a:t>PROMESA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Neo Sans"/>
              </a:rPr>
              <a:t>HA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3"/>
          <p:cNvSpPr/>
          <p:nvPr/>
        </p:nvSpPr>
        <p:spPr>
          <a:xfrm>
            <a:off x="4705560" y="1951200"/>
            <a:ext cx="94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Neo Sans"/>
              </a:rPr>
              <a:t>% DE OB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Neo Sans"/>
              </a:rPr>
              <a:t>FINALIZ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4"/>
          <p:cNvSpPr/>
          <p:nvPr/>
        </p:nvSpPr>
        <p:spPr>
          <a:xfrm>
            <a:off x="4789800" y="4616280"/>
            <a:ext cx="94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Neo Sans"/>
              </a:rPr>
              <a:t>% DE OB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Neo Sans"/>
              </a:rPr>
              <a:t>FINALIZ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5"/>
          <p:cNvSpPr/>
          <p:nvPr/>
        </p:nvSpPr>
        <p:spPr>
          <a:xfrm>
            <a:off x="3278160" y="2565360"/>
            <a:ext cx="2797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7"/>
          <p:cNvSpPr/>
          <p:nvPr/>
        </p:nvSpPr>
        <p:spPr>
          <a:xfrm>
            <a:off x="3282840" y="4076640"/>
            <a:ext cx="2797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8"/>
          <p:cNvSpPr/>
          <p:nvPr/>
        </p:nvSpPr>
        <p:spPr>
          <a:xfrm>
            <a:off x="5149800" y="2565360"/>
            <a:ext cx="2797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9"/>
          <p:cNvSpPr/>
          <p:nvPr/>
        </p:nvSpPr>
        <p:spPr>
          <a:xfrm>
            <a:off x="5149800" y="4076640"/>
            <a:ext cx="2797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0"/>
          <p:cNvSpPr/>
          <p:nvPr/>
        </p:nvSpPr>
        <p:spPr>
          <a:xfrm>
            <a:off x="519120" y="524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1"/>
          <p:cNvSpPr/>
          <p:nvPr/>
        </p:nvSpPr>
        <p:spPr>
          <a:xfrm>
            <a:off x="324000" y="5303880"/>
            <a:ext cx="4824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1 </a:t>
            </a:r>
            <a:r>
              <a:rPr b="0" lang="es-AR" sz="1800" spc="-1" strike="noStrike">
                <a:solidFill>
                  <a:srgbClr val="000000"/>
                </a:solidFill>
                <a:latin typeface="Neo Sans"/>
              </a:rPr>
              <a:t>–</a:t>
            </a: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 Cesion fiduciaria de activos ( estructura edilicia) x M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2 – Compromiso de realizar la obra - Desarroll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Neo Sans"/>
              </a:rPr>
              <a:t>3 – Adjudicacion de M2 a las partes  - Obra Termi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CEFE-30A0-4CAC-8E2A-7ED569AB2BA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299" name="4 Rectángulo"/>
          <p:cNvSpPr/>
          <p:nvPr/>
        </p:nvSpPr>
        <p:spPr>
          <a:xfrm>
            <a:off x="2209320" y="2857680"/>
            <a:ext cx="38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f7f7f"/>
                </a:solidFill>
                <a:latin typeface="Neo Sans"/>
              </a:rPr>
              <a:t>Reflexión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B403-A709-4F26-BBBE-7D7181D0B20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303" name="5 Rectángulo"/>
          <p:cNvSpPr/>
          <p:nvPr/>
        </p:nvSpPr>
        <p:spPr>
          <a:xfrm>
            <a:off x="1071720" y="1643040"/>
            <a:ext cx="6858000" cy="4480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Neo Sans"/>
              </a:rPr>
              <a:t>El fideicomiso es un instrumento versátil que en sus distintos tipos puede dar más de una solución a la gest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Neo Sans"/>
              </a:rPr>
              <a:t>Financi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Neo Sans"/>
              </a:rPr>
              <a:t>Mejoras administ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Neo Sans"/>
              </a:rPr>
              <a:t>Transpa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Neo Sans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7A5B-4B6A-4562-976F-8373C4EFC67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307" name="4 Rectángulo"/>
          <p:cNvSpPr/>
          <p:nvPr/>
        </p:nvSpPr>
        <p:spPr>
          <a:xfrm>
            <a:off x="2103120" y="2857680"/>
            <a:ext cx="42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f7f7f"/>
                </a:solidFill>
                <a:latin typeface="Neo Sans"/>
              </a:rPr>
              <a:t>Muchas gracia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4 Grupo"/>
          <p:cNvGrpSpPr/>
          <p:nvPr/>
        </p:nvGrpSpPr>
        <p:grpSpPr>
          <a:xfrm>
            <a:off x="851040" y="1028880"/>
            <a:ext cx="7149960" cy="5234400"/>
            <a:chOff x="851040" y="1028880"/>
            <a:chExt cx="7149960" cy="5234400"/>
          </a:xfrm>
        </p:grpSpPr>
        <p:sp>
          <p:nvSpPr>
            <p:cNvPr id="91" name="5 CuadroTexto"/>
            <p:cNvSpPr/>
            <p:nvPr/>
          </p:nvSpPr>
          <p:spPr>
            <a:xfrm>
              <a:off x="851040" y="10288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7f7f7f"/>
                  </a:solidFill>
                  <a:latin typeface="Neo Sans"/>
                </a:rPr>
                <a:t>IND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6 CuadroTexto"/>
            <p:cNvSpPr/>
            <p:nvPr/>
          </p:nvSpPr>
          <p:spPr>
            <a:xfrm>
              <a:off x="857160" y="1643040"/>
              <a:ext cx="714384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7f7f7f"/>
                  </a:solidFill>
                  <a:latin typeface="Neo Sans"/>
                </a:rPr>
                <a:t>Quiénes somo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7f7f7f"/>
                  </a:solidFill>
                  <a:latin typeface="Neo Sans"/>
                </a:rPr>
                <a:t>Qué administramo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7f7f7f"/>
                  </a:solidFill>
                  <a:latin typeface="Neo Sans"/>
                </a:rPr>
                <a:t>Qué ofrecemo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7f7f7f"/>
                  </a:solidFill>
                  <a:latin typeface="Neo Sans"/>
                </a:rPr>
                <a:t>Qué es un fideicomiso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7f7f7f"/>
                  </a:solidFill>
                  <a:latin typeface="Neo Sans"/>
                </a:rPr>
                <a:t>Qué es un fideicomiso financiero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7f7f7f"/>
                  </a:solidFill>
                  <a:latin typeface="Neo Sans"/>
                </a:rPr>
                <a:t>Algunos ejemp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7f7f7f"/>
                  </a:solidFill>
                  <a:latin typeface="Neo Sans"/>
                </a:rPr>
                <a:t>Reflexión f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7f7f7f"/>
                  </a:solidFill>
                  <a:latin typeface="Neo San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151A-8FD2-4D63-9D0D-339A9D82EA2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0E53-8B62-4589-8CAB-09AB11FD759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98" name="4 Rectángulo"/>
          <p:cNvSpPr/>
          <p:nvPr/>
        </p:nvSpPr>
        <p:spPr>
          <a:xfrm>
            <a:off x="1988280" y="2643120"/>
            <a:ext cx="50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7f7f7f"/>
                </a:solidFill>
                <a:latin typeface="Neo Sans"/>
              </a:rPr>
              <a:t>Quiénes somo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8A2B-1056-4DC5-8379-8AAFED3F5EC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102" name="4 Rectángulo"/>
          <p:cNvSpPr/>
          <p:nvPr/>
        </p:nvSpPr>
        <p:spPr>
          <a:xfrm>
            <a:off x="428760" y="1285920"/>
            <a:ext cx="82864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7f7f7f"/>
                </a:solidFill>
                <a:latin typeface="Neo Sans"/>
              </a:rPr>
              <a:t>Provincia Mandatos es una empresa del Grupo Banco Provincia, con el respaldo del Banco de la Provincia de Buenos Aires, dedicada a organizar y administrar fideicomi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7f7f7f"/>
                </a:solidFill>
                <a:latin typeface="Neo Sans"/>
              </a:rPr>
              <a:t>El Fideicomiso es un instrumento flexible de uso muy extendido en el mundo que permite aislar bienes en un patrimonio separado con distintas fina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7f7f7f"/>
                </a:solidFill>
                <a:latin typeface="Neo Sans"/>
              </a:rPr>
              <a:t>Composición acciona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7f7f7f"/>
                </a:solidFill>
                <a:latin typeface="Neo Sans"/>
              </a:rPr>
              <a:t>Grupo Banco Provincia 9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7f7f7f"/>
                </a:solidFill>
                <a:latin typeface="Neo Sans"/>
              </a:rPr>
              <a:t>Provincia Bursátil 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CuadroTexto"/>
          <p:cNvSpPr/>
          <p:nvPr/>
        </p:nvSpPr>
        <p:spPr>
          <a:xfrm>
            <a:off x="2643120" y="928800"/>
            <a:ext cx="38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f7f7f"/>
                </a:solidFill>
                <a:latin typeface="Neo Sans"/>
              </a:rPr>
              <a:t>Participación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6 CuadroTexto"/>
          <p:cNvSpPr/>
          <p:nvPr/>
        </p:nvSpPr>
        <p:spPr>
          <a:xfrm>
            <a:off x="900000" y="595008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Neo Sans"/>
              </a:rPr>
              <a:t>Observaciones: Cantidad de Emisiones Fideicomisos Financieros con oferta pública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7080-AB91-4EB6-9130-76550D1D959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2"/>
          <p:cNvGraphicFramePr/>
          <p:nvPr/>
        </p:nvGraphicFramePr>
        <p:xfrm>
          <a:off x="343080" y="1895400"/>
          <a:ext cx="8458200" cy="343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080" y="1895400"/>
                    <a:ext cx="84582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5002-EDFF-43B0-BCCC-A845584F888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112" name="4 Rectángulo"/>
          <p:cNvSpPr/>
          <p:nvPr/>
        </p:nvSpPr>
        <p:spPr>
          <a:xfrm>
            <a:off x="1571760" y="2643120"/>
            <a:ext cx="616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7f7f7f"/>
                </a:solidFill>
                <a:latin typeface="Neo Sans"/>
              </a:rPr>
              <a:t>Qué administramo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3 CuadroTexto"/>
          <p:cNvSpPr/>
          <p:nvPr/>
        </p:nvSpPr>
        <p:spPr>
          <a:xfrm>
            <a:off x="2700360" y="76500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f7f7f"/>
                </a:solidFill>
                <a:latin typeface="Neo Sans"/>
              </a:rPr>
              <a:t>Mix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7 CuadroTexto"/>
          <p:cNvSpPr/>
          <p:nvPr/>
        </p:nvSpPr>
        <p:spPr>
          <a:xfrm>
            <a:off x="900000" y="6093000"/>
            <a:ext cx="728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f7f7f"/>
                </a:solidFill>
                <a:latin typeface="Neo Sans"/>
              </a:rPr>
              <a:t>Observaciones: Datos al 31/05/2011 - Cantidad de Fideicomisos Administrados 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f7f7f"/>
                </a:solidFill>
                <a:latin typeface="Neo Sans"/>
              </a:rPr>
              <a:t>Fondos de terceros administrados: $ 1.740.- mill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2DF0-5E40-4A96-B307-76F655E1249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Object 2"/>
          <p:cNvGraphicFramePr/>
          <p:nvPr/>
        </p:nvGraphicFramePr>
        <p:xfrm>
          <a:off x="1835280" y="1197000"/>
          <a:ext cx="5438520" cy="230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197000"/>
                    <a:ext cx="54385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3"/>
          <p:cNvGraphicFramePr/>
          <p:nvPr/>
        </p:nvGraphicFramePr>
        <p:xfrm>
          <a:off x="1835280" y="3573360"/>
          <a:ext cx="5448240" cy="2403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3573360"/>
                    <a:ext cx="544824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939C-8D54-4162-A5DE-12108D6451C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55680" y="266760"/>
            <a:ext cx="1571400" cy="546120"/>
          </a:xfrm>
          <a:prstGeom prst="rect">
            <a:avLst/>
          </a:prstGeom>
          <a:ln w="0">
            <a:noFill/>
          </a:ln>
        </p:spPr>
      </p:pic>
      <p:sp>
        <p:nvSpPr>
          <p:cNvPr id="124" name="4 Rectángulo"/>
          <p:cNvSpPr/>
          <p:nvPr/>
        </p:nvSpPr>
        <p:spPr>
          <a:xfrm>
            <a:off x="1913760" y="2714760"/>
            <a:ext cx="508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7f7f7f"/>
                </a:solidFill>
                <a:latin typeface="Neo Sans"/>
              </a:rPr>
              <a:t>Qué ofrecemo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7:35:30Z</dcterms:created>
  <dc:creator>gnavarro</dc:creator>
  <dc:description/>
  <dc:language>en-US</dc:language>
  <cp:lastModifiedBy>olopez</cp:lastModifiedBy>
  <dcterms:modified xsi:type="dcterms:W3CDTF">2011-07-27T22:57:21Z</dcterms:modified>
  <cp:revision>253</cp:revision>
  <dc:subject/>
  <dc:title>Diapositiva 1</dc:title>
</cp:coreProperties>
</file>